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FEF-BBFB-4F11-BAAB-06EB1E4E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44B0-E2E4-4107-BF9C-C3135C59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7D8-D20D-4418-88E3-A38B845E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5411-A1EB-4ADA-833F-53898632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C01-D52E-46D8-B841-1B80355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DBE-B42E-4158-A704-9C03535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20B-D3AB-4CFD-AD3A-B3B33DEC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360-A4FA-4778-A39B-DDDCFB46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11E-F720-4154-BB41-B37B5E0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1BB-2518-4FE3-BEA8-91BD575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B9D-657C-44B3-B7AD-0B1E8750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B19-9B3E-4A77-B176-2E387EDC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001D-5A7C-410B-9DFA-E0B190B2E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19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Aug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Positional Differenc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371600"/>
            <a:ext cx="8381880" cy="3080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vital that we consider positional differences when determining which aspects of fitness are important in hoc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goalkeeper will have very different fitness demands to a midfield player and a forward player will have different fitness demand than a midfie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146700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1752840" cy="17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916360" y="4724280"/>
            <a:ext cx="2879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Positional Differenc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8381880" cy="3445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cuss in your pair what the fitness expectation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idfie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oalkee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member to discuss the reasons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4797360"/>
            <a:ext cx="2648160" cy="176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19640" y="4797360"/>
            <a:ext cx="2446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2860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413000"/>
            <a:ext cx="838188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lease complete the ‘positional differences’ worksheet for Wednesday 2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ugust.  This will be entered into your course notes next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2592360" cy="234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460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67652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time line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nderstand the expectations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dentify the positional differences in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ourse 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course outline until May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3789360"/>
            <a:ext cx="350532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11-2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kills &amp; Techniques – Badminton (Including N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4191120" cy="1556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1-1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   Preparation of the Body –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2819520"/>
            <a:ext cx="3504960" cy="2043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21-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tructures &amp; Strategies - Baske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5181480"/>
            <a:ext cx="3505320" cy="10688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ks 30-35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Know the time line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Understand the expectations for S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Identify the positional differences in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dd One Ou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usain_bolt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2494080" cy="36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674800" cy="267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92360" y="38210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51280" y="1773360"/>
            <a:ext cx="25639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dd One Ou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205000" cy="2921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330804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11280" y="3645000"/>
            <a:ext cx="2451240" cy="295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446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Weekly out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676520"/>
            <a:ext cx="8686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uesda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– Prac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dnesday –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assroom lesson (m9) (homework issued and collec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ida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– Prac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bring your PE folder to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very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less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xam Expec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447920"/>
            <a:ext cx="8458200" cy="50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our final PE grade at Int 2 is made up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50% from your practical performance (best 2 activiti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50% from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You MUST complete the NAB before you can sit ex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ycle of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67652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090440"/>
            <a:ext cx="86868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sk 1 – Enter the 4 underlined words into your blank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Reflect on the benefits of your programme of work and discuss future developmen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ANALYS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how key concept knowledge helped you analys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INVESTIGAT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how performance was investigated through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DEVELO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- Explain the content and suitability of the programme you wer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219320"/>
            <a:ext cx="2971800" cy="23619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1219320"/>
            <a:ext cx="22096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4572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752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8-19T08:56:12Z</dcterms:modified>
  <cp:revision>8</cp:revision>
  <dc:subject/>
  <dc:title>Intermediate PE</dc:title>
</cp:coreProperties>
</file>